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AC1F-1B65-40C9-9A1E-62CC57A1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356F-4F04-44D9-B9F6-1F40863E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268B-956B-4523-A268-35D72ADA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55FE-B637-4C23-AFC5-44685345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9FCD-853D-406C-B961-BA6AC6E8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8E43-93D7-4D1F-8A13-71F0A6AD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787-29A9-4EDB-A096-DC4F0955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D0A7-9540-41B6-9E7F-4BEC6F5D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090-3690-4B09-8E54-17D48563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90FA-7CAC-47A4-9B07-0564B529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E910-3B5F-4382-B738-E0FC727B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6E6-0114-48DC-B9DA-25F18294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5486-1F13-4A9A-AB1D-0EC79797A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raf 1 -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OČET VYŠETŘENÍ A POČET HIV+ V ČESKÉ REPUBLI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v jednotlivých letech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(jen občané ČR a cizinci s trvalým pobytem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bsolutní údaje ke dn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1.7.20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95160" y="1981080"/>
            <a:ext cx="7751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raf 10: RUTINNÍ TESTOVÁNÍ HIV U GRAVIDNÍCH Ž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V JEDNOTLIVÝCH LETECH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(jen občané ČR a cizinci s trvalým pobytem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bsolutní údaje ke dn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1.7.20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2031840"/>
          <a:ext cx="7772400" cy="40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31840"/>
                    <a:ext cx="77724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raf 11: OSOBY ŽIJÍCÍ S HIV+/AIDS V ČESKÉ REPUBLI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(jen občané ČR a cizinci s trvalým pobytem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Měsíční údaje ke dn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1.7.20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185840" y="1981080"/>
          <a:ext cx="67723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1981080"/>
                    <a:ext cx="6772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raf 12: POČET HIV+ OSOB V ČESKÉ REPUBL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Kumulativní údaje ke dn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1.7.20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303200" y="1981080"/>
          <a:ext cx="65376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1981080"/>
                    <a:ext cx="6537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raf 13: HIV+ OSOBY V ČESKÉ REPUBLI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PODLE NÁRODNOST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Kumulativní údaje ke dn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1.7.20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478240" y="1981080"/>
          <a:ext cx="41860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1981080"/>
                    <a:ext cx="4186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raf 14: HIV+ REZIDENTI V ČESKÉ REPUBLI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Kumulativní údaje za období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1.1.1995 - 31.7.20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51040" y="1981080"/>
          <a:ext cx="56404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1040" y="1981080"/>
                    <a:ext cx="5640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raf 15: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IV+ CIZINCI ZE STŘEDNÍ A VÝCHODNÍ EVROP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Kumulativní údaje za období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1.1.1995 - 31.7.20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617840" y="1981080"/>
          <a:ext cx="59068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7840" y="1981080"/>
                    <a:ext cx="5906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Kartogram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: HIV INFEKCE V ČESKÉ REPUBLI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ODLE KRAJE BYDLIŠTĚ V DOBĚ PRVNÍ DIAGNÓZY HIV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(jen občané ČR a cizinci s trvalým pobytem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Kumulativní údaje ke dn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1.7.20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031760" y="1981080"/>
          <a:ext cx="70804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1981080"/>
                    <a:ext cx="7080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raf 3:ROZDĚLENÍ HIV POZITIVNÍCH PŘÍPADŮ V Č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ODLE KRAJE BYDLIŠTĚ V DOBĚ PRVNÍ DIAGNÓZY HIV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(jen občané ČR a cizinci s trvalým pobytem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Kumulativní údaje ke dn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1.7.20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23880" y="1685880"/>
          <a:ext cx="6248520" cy="517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85880"/>
                    <a:ext cx="624852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raf 4: HIV / AIDS V ČESKÉ REPUBLI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(jen občané ČR a cizinci s trvalým pobytem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Kumulativní údaje ke dn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1.7.20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60480" y="1981080"/>
          <a:ext cx="72230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1981080"/>
                    <a:ext cx="7223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raf 5: AIDS V ČESKÉ REPUBLI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(jen občané ČR a cizinci s trvalým pobytem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Kumulativní údaje ke dn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1.7.20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185840" y="1981080"/>
          <a:ext cx="67723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1981080"/>
                    <a:ext cx="6772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raf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: ROZDĚLENÍ HIV POZITIVNÍCH PŘÍPADŮ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ODLE ZPŮSOBU PŘENOSU V ČESKÉ REPUBLI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(jen občané ČR a cizinci s trvalým pobytem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Kumulativní údaje ke dn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1.7.20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38480" y="1523880"/>
          <a:ext cx="45972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8480" y="1523880"/>
                    <a:ext cx="45972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raf 7: POČET  HIV+ HOMO/BISEXUÁLNÍCH MUŽŮ V ČESKÉ REPUBLI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VĚ ZJIŠTĚNÉ PŘÍPADY V JEDNOTLIVÝCH LETECH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(jen občané ČR a cizinci s trvalým pobytem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bsolutní údaje ke dn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1.7.20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2052720"/>
          <a:ext cx="7772400" cy="39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2720"/>
                    <a:ext cx="777240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raf 8: HIV+ PODLE POHLAVÍ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V ČESKÉ REPUBLI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(jen občané ČR a cizinci s trvalým pobytem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Kumulativní údaje ke dn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1.7.20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93920" y="1981080"/>
          <a:ext cx="45561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3920" y="1981080"/>
                    <a:ext cx="4556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raf 9: TESTOVÁNÍ KREVNÍCH VZORKŮ V TRANSFUZNÍ SLUŽBĚ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V JEDNOTLIVÝCH LETECH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(jen občané ČR a cizinci s trvalým pobytem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bsolutní údaj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1.7.1987 - 31.7.20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01640" y="1981080"/>
          <a:ext cx="77389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1981080"/>
                    <a:ext cx="7738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8:36:17Z</dcterms:created>
  <dc:creator>Markéta Doležalová</dc:creator>
  <dc:description/>
  <dc:language>en-US</dc:language>
  <cp:lastModifiedBy>Markéta Doležalová</cp:lastModifiedBy>
  <dcterms:modified xsi:type="dcterms:W3CDTF">2003-08-28T09:39:00Z</dcterms:modified>
  <cp:revision>2</cp:revision>
  <dc:subject/>
  <dc:title>Graf 1 - POČET VYŠETŘENÍ A POČET HIV+ V ČESKÉ REPUBLICE v jednotlivých letech  (jen občané ČR a cizinci s trvalým pobytem) Absolutní údaje ke dni 31.7.2003 </dc:title>
</cp:coreProperties>
</file>